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7D63-CB16-4618-85F7-1A091479C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D46A-26DF-4C35-9395-2BCF5C853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97FE-2528-4278-B6E5-EFBEC11F7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B17-0A52-4C3E-83CC-219C77A78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093C-59D8-40B4-8696-B0A8EECE6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F5D4-529A-4B95-A373-2A23A0EAF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82CDE-7A88-416C-8FC0-CA278565C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15E9-EF21-401F-9483-E7A9FFEF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DF24-BF5C-47DE-8C1F-C99732963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9460-789F-4D12-86B7-395B1A4F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57CB2-9031-4CE9-8B66-24D484EB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2AAC-777E-4E6A-B34A-1706D62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C6A98-BA08-4B8D-9354-504054B3B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DEN DE PALAB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º ES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L ORDEN DE PALABRAS EN LATÍN ES MUY VARIAB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L MÁS USUAL 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JETO AL 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VERBO AL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LEMENTOS DEL VERBO ANTES DEL VERB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ff"/>
                </a:solidFill>
                <a:latin typeface="Arial"/>
              </a:rPr>
              <a:t>COMPLEMENTOS DEL NOMBRE ANTES DEL NOMB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" dur="8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NAUTA FILIAM A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JETO + C.DIRECTO+VERBO TRANSI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AGRICOLAE FIL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.DEL NOMBRE+ NOMB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3300"/>
                </a:solidFill>
                <a:latin typeface="Arial"/>
              </a:rPr>
              <a:t>PUELLA PULCHRA 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UJETO + ATRIBUTO +VERBO COPUL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4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3T11:23:43Z</dcterms:created>
  <dc:creator>Alumno</dc:creator>
  <dc:description/>
  <dc:language>en-US</dc:language>
  <cp:lastModifiedBy>Alumno</cp:lastModifiedBy>
  <dcterms:modified xsi:type="dcterms:W3CDTF">2012-02-03T11:30:53Z</dcterms:modified>
  <cp:revision>1</cp:revision>
  <dc:subject/>
  <dc:title>ORDEN DE PALABRAS</dc:title>
</cp:coreProperties>
</file>